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2B9-105E-4627-AA8E-277FB053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A75-804B-473A-BA6D-21657F18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974-E19E-4849-9A22-CABD84C9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FBF-B4D0-4752-A6EA-4CFC2EBC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BBD-BE15-44DF-B3E7-1A3CEC1B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B00-915A-4D8B-9129-D61D53B1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D7C-FC5C-4200-A03B-A3ECA6CF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111-6B36-4DD9-9CF1-7E78D4E2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306-B5AA-4F58-8D24-84056011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BAE-3B4D-485A-951F-AA23E237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35C-4D42-4F52-B378-95C42E6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C67-CE7F-489A-8441-FBB6547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5C70-0801-4CCC-831D-F0AA30714F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944640"/>
            <a:ext cx="7944120" cy="10969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742000" y="2114640"/>
            <a:ext cx="2811600" cy="15494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3541680" y="3797280"/>
            <a:ext cx="1852560" cy="701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57200" y="1974960"/>
            <a:ext cx="5211720" cy="920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87440" y="2987640"/>
            <a:ext cx="559584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590400" y="5254560"/>
            <a:ext cx="3616560" cy="6336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536400" y="3902040"/>
            <a:ext cx="2597400" cy="461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469800" y="4645080"/>
            <a:ext cx="5407200" cy="6951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2023920" y="3816360"/>
            <a:ext cx="1657440" cy="6332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2305080" y="5284800"/>
            <a:ext cx="25048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4" descr=""/>
          <p:cNvPicPr/>
          <p:nvPr/>
        </p:nvPicPr>
        <p:blipFill>
          <a:blip r:embed="rId2"/>
          <a:stretch/>
        </p:blipFill>
        <p:spPr>
          <a:xfrm>
            <a:off x="5999040" y="1030320"/>
            <a:ext cx="276084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2736720" y="969840"/>
            <a:ext cx="1530360" cy="6336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469800" y="2309760"/>
            <a:ext cx="2602080" cy="920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487440" y="5541840"/>
            <a:ext cx="3828960" cy="614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487440" y="1054080"/>
            <a:ext cx="178596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2279520" y="2498760"/>
            <a:ext cx="6108840" cy="6224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487440" y="1663560"/>
            <a:ext cx="2163600" cy="6224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2266920" y="1731960"/>
            <a:ext cx="2457360" cy="4683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2279520" y="3127320"/>
            <a:ext cx="5164200" cy="6159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1"/>
          <a:stretch/>
        </p:blipFill>
        <p:spPr>
          <a:xfrm>
            <a:off x="2279520" y="3681360"/>
            <a:ext cx="5164200" cy="6159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2"/>
          <a:stretch/>
        </p:blipFill>
        <p:spPr>
          <a:xfrm>
            <a:off x="2279520" y="4260960"/>
            <a:ext cx="384012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20" descr=""/>
          <p:cNvPicPr/>
          <p:nvPr/>
        </p:nvPicPr>
        <p:blipFill>
          <a:blip r:embed="rId13"/>
          <a:stretch/>
        </p:blipFill>
        <p:spPr>
          <a:xfrm>
            <a:off x="7029360" y="4346640"/>
            <a:ext cx="1730520" cy="10173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4"/>
          <a:stretch/>
        </p:blipFill>
        <p:spPr>
          <a:xfrm>
            <a:off x="2273400" y="4876920"/>
            <a:ext cx="38415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0:58:08Z</dcterms:modified>
  <cp:revision>12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